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5.jpeg" ContentType="image/jpe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9025-9865-4B9B-B7E5-E9D4C93B7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12AA-DBA8-44CC-8C21-0DAEF017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9EDD-4288-450B-B002-9A7C9FDC6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964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980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964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980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9129-A3B2-449F-84AB-756DE71F6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8551-B2A3-4E12-BBD6-43AE07C22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8792-5B13-44AD-B10E-791C9D6E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2A35-E1F4-440B-A019-0C3C9AE0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FFB9-FC66-4807-8F2C-4C72A78A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CE07-3008-4310-B0F8-FDC8553D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62D4-7CD1-43BB-A968-7D606410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F5E8-38DF-4240-BC02-B025CC0C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BE1B-75CB-4611-B1C4-905B4783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80D1-4A36-46E1-8200-12779F22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EDB2-4763-4C8F-933C-C0388277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B886-0AC8-4510-8F60-29B7E272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9EBA-EFF4-4A70-BC10-577297F9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964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980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964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980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556E-1065-4A83-9D7F-B82C2C471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782B4-9A2B-4F8D-9BE5-B9D406EB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77FFD-1D2F-4CB4-B6C9-31D23866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E4309-6122-43F3-9591-3C6DF87C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9D59D-1F9C-4E19-9B20-AD7AB8DF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61A13-284C-47D3-90F4-F9979EA1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DF21-0D9F-4DC1-8428-F1FCDBE2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3AB9F-8BCA-4560-A868-2A9FD8AF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9C9EE-4971-4660-9AAE-9079A5BB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B1D6E-7ACE-47BC-85E3-C519E41B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527FE-16C1-4F74-BBE2-78A3E7B8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4B13B-297D-4DF5-9391-FF0CD41A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F926C-105B-478A-A3CB-D338B0ABE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31964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02980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0948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431964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802980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92281-6F42-4ADA-BB8E-C78AF4050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0895D-2050-48C3-9FFA-D1F35AFD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7B71C-BC8F-45B1-818B-278E3FE8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64C4B-EC05-4FD0-9FDA-0BA25029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1B7B-A70E-4505-8982-4506D937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C6DD7-2CC2-4DD6-A38D-DFD2DEAA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5339C-C97D-4398-8B25-3A7A6BC4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DC256-C4D2-489E-A2FC-D86A47FC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099E3-F7BA-46CC-A6E9-6B1CC690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B6F13-5F7E-48C1-BA58-818EBACE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628AA-2EF7-4362-AD01-3C079F1C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C9B77-3895-473C-AE13-F3A1B48E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D333E-8735-4C1F-95EE-A5BC6E64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31964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02980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0948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31964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02980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093F5-410B-46EA-91CD-019F4FB2C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175B2-F772-48A6-A423-EE395A8B5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72BE-A1AB-4870-8D89-A70929F3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72D03-4523-4B04-BFDC-36AE1209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7F0BF-0F47-4865-B58A-6CF34AC9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C7207-3CCC-4835-BEFC-71184AAC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F2B99-2D8D-4B0F-8495-C12FEBBB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062F3-E01F-481D-8791-258653A0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74F3F-948B-4542-8F74-AD1D74F1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5005B-B72C-4F28-B148-FD7A9683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84D07-7002-4003-9EE8-98122E46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ED661-B717-46F3-B525-D599E549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F5213-63E9-47A2-BAB3-458DD70EA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5EBC-7D0A-46CA-9A29-51AC6F23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31964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802980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0948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431964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802980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200BA-2BF8-4383-AFD4-35A23D8F6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FE287-ED38-4C22-9418-C15885134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FB138-5BEE-4DD3-B2E8-65869555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B63C8-818C-4021-BEB2-B759D5A5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6B377-929E-4614-8E3E-36D8B648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05B57-6EA2-4971-A386-1DC7DD11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F0990-7AE8-45C8-9237-44D4E80E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D3403-B72E-4147-B6A1-3AB3E6BD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B84C5-059D-4B09-828C-429A934F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95C88-7CE5-4368-9C8A-705EDA92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C81C-E35E-4877-B87E-5D1D9F4D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78FB4-21B7-4879-B36B-663833C6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6791E-875C-483E-B2B2-44CB0167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31964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02980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0948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431964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802980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9C7B8-3722-47D3-ABAB-332EE8F6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C62BD-40A7-425B-83AB-26352D526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D8DF6-2F50-4A2E-8559-725B7A40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087A0-0319-445B-97E0-92714F71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6C073-B2A7-43BD-BD4D-DD9EDE90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AC763-FB84-4D5E-9E5C-EDC1CB6D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0BE71-ABD5-4F26-B04E-1E4AA885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24749-5ADA-408B-AE75-A0B1B8C4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5115-9CFE-4ED6-BD63-5AA5A420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CAA26-F71D-4AA9-92A3-8A3B5192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8ADB6-15BE-47BA-8872-D369E979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89906-1FDB-486F-B89F-0F8DD77D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B538C-24A7-4418-88B9-5B76B9D2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31964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02980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60948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431964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802980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F27AF-5E6E-465C-B26A-71D4E900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59707-11CF-48DB-8758-C9016D0E5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6D635-8D29-4736-A504-01D369FA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28E46-747A-4A15-8170-27B97E65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E6E09-0954-4971-8ADA-6F810917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620FB-D5C9-4D5B-A665-1F79688D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14A2-E05C-4EF7-8D61-95A46F97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800B8-8D88-4407-A470-A700FFE0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F6548-8D74-4825-BC6A-C5DA2710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86D4F-AA90-49A4-B328-471C4FD1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70750-A576-4C00-9467-1E1F9AAD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CDCA4-5B47-4C77-AEA4-9FFF696A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F984A-301F-432F-A5E8-D66E7847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31964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02980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0948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431964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802980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9BD98-85CA-44CC-951F-D3D5582B5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955800" y="5002200"/>
            <a:ext cx="506880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71280" y="5784840"/>
            <a:ext cx="506880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4548240" cy="1092240"/>
            <a:chOff x="-12600" y="5784840"/>
            <a:chExt cx="454824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454824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369720" y="6421320"/>
              <a:ext cx="22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455472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8969040" y="6408720"/>
            <a:ext cx="2560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839920" y="6408720"/>
            <a:ext cx="313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1530080" y="640872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D2EF-20FA-404F-AD8F-20B8D72D872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12201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4680" y="4952880"/>
            <a:ext cx="12196800" cy="1911600"/>
            <a:chOff x="-4680" y="4952880"/>
            <a:chExt cx="1219680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2254320" y="4952880"/>
              <a:ext cx="993168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54720" y="5236200"/>
              <a:ext cx="121312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1080" y="4992120"/>
              <a:ext cx="12191040" cy="1872360"/>
              <a:chOff x="1080" y="4992120"/>
              <a:chExt cx="1219104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1080" y="4992120"/>
                <a:ext cx="1219104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72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4680" y="4986000"/>
              <a:ext cx="1219680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8969040" y="6408720"/>
            <a:ext cx="2560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839920" y="6408720"/>
            <a:ext cx="313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11530080" y="640872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2434-0A01-48D4-89AB-EC2ADB812E63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955800" y="5002200"/>
            <a:ext cx="506880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71280" y="5784840"/>
            <a:ext cx="506880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4548240" cy="1092240"/>
            <a:chOff x="-12600" y="5784840"/>
            <a:chExt cx="454824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454824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69720" y="6421320"/>
              <a:ext cx="22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455472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4848120" y="3005280"/>
            <a:ext cx="244440" cy="228600"/>
          </a:xfrm>
          <a:custGeom>
            <a:avLst/>
            <a:gdLst>
              <a:gd name="textAreaLeft" fmla="*/ 0 w 244440"/>
              <a:gd name="textAreaRight" fmla="*/ 244440 w 2444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01" y="0"/>
                </a:lnTo>
                <a:lnTo>
                  <a:pt x="21600" y="10800"/>
                </a:lnTo>
                <a:lnTo>
                  <a:pt x="11501" y="21600"/>
                </a:lnTo>
                <a:lnTo>
                  <a:pt x="0" y="21600"/>
                </a:lnTo>
                <a:lnTo>
                  <a:pt x="10099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4600440" y="3005280"/>
            <a:ext cx="243000" cy="228600"/>
          </a:xfrm>
          <a:custGeom>
            <a:avLst/>
            <a:gdLst>
              <a:gd name="textAreaLeft" fmla="*/ 0 w 243000"/>
              <a:gd name="textAreaRight" fmla="*/ 243360 w 2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435" y="0"/>
                </a:lnTo>
                <a:lnTo>
                  <a:pt x="21600" y="10800"/>
                </a:lnTo>
                <a:lnTo>
                  <a:pt x="11435" y="21600"/>
                </a:lnTo>
                <a:lnTo>
                  <a:pt x="0" y="21600"/>
                </a:lnTo>
                <a:lnTo>
                  <a:pt x="10165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8969040" y="6408720"/>
            <a:ext cx="2560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5839920" y="6408720"/>
            <a:ext cx="313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11530080" y="640872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7ED8-830D-46E8-8EEE-E06525F1A4C4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955800" y="5002200"/>
            <a:ext cx="506880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71280" y="5784840"/>
            <a:ext cx="506880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4548240" cy="1092240"/>
            <a:chOff x="-12600" y="5784840"/>
            <a:chExt cx="454824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454824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369720" y="6421320"/>
              <a:ext cx="22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455472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8969040" y="6408720"/>
            <a:ext cx="2560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839920" y="6408720"/>
            <a:ext cx="313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11530080" y="640872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BAFB-D635-4395-A034-E87AABA958F5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8969040" y="6408720"/>
            <a:ext cx="2560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5839920" y="6408720"/>
            <a:ext cx="313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11530080" y="640872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5451-152C-4480-8C3C-73854204E12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955800" y="5002200"/>
            <a:ext cx="506880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71280" y="5784840"/>
            <a:ext cx="506880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4548240" cy="1092240"/>
            <a:chOff x="-12600" y="5784840"/>
            <a:chExt cx="454824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454824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369720" y="6421320"/>
              <a:ext cx="22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455472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8969040" y="6408720"/>
            <a:ext cx="2560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5839920" y="6408720"/>
            <a:ext cx="313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11530080" y="640872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2BD7-B59D-4588-B953-F0336083491E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8969040" y="6408720"/>
            <a:ext cx="2560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5839920" y="6408720"/>
            <a:ext cx="313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11530080" y="640872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7333-1F1B-4E1A-9E03-72168B68CE9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955800" y="5002200"/>
            <a:ext cx="506880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71280" y="5784840"/>
            <a:ext cx="506880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4548240" cy="1092240"/>
            <a:chOff x="-12600" y="5784840"/>
            <a:chExt cx="454824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454824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369720" y="6421320"/>
              <a:ext cx="22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455472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11552400" y="4987800"/>
            <a:ext cx="244440" cy="228600"/>
          </a:xfrm>
          <a:custGeom>
            <a:avLst/>
            <a:gdLst>
              <a:gd name="textAreaLeft" fmla="*/ 0 w 244440"/>
              <a:gd name="textAreaRight" fmla="*/ 244440 w 2444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01" y="0"/>
                </a:lnTo>
                <a:lnTo>
                  <a:pt x="21600" y="10800"/>
                </a:lnTo>
                <a:lnTo>
                  <a:pt x="11501" y="21600"/>
                </a:lnTo>
                <a:lnTo>
                  <a:pt x="0" y="21600"/>
                </a:lnTo>
                <a:lnTo>
                  <a:pt x="10099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11302920" y="4987800"/>
            <a:ext cx="244440" cy="228600"/>
          </a:xfrm>
          <a:custGeom>
            <a:avLst/>
            <a:gdLst>
              <a:gd name="textAreaLeft" fmla="*/ 0 w 244440"/>
              <a:gd name="textAreaRight" fmla="*/ 244440 w 2444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01" y="0"/>
                </a:lnTo>
                <a:lnTo>
                  <a:pt x="21600" y="10800"/>
                </a:lnTo>
                <a:lnTo>
                  <a:pt x="11501" y="21600"/>
                </a:lnTo>
                <a:lnTo>
                  <a:pt x="0" y="21600"/>
                </a:lnTo>
                <a:lnTo>
                  <a:pt x="10099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8969040" y="6408720"/>
            <a:ext cx="2560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5839920" y="6408720"/>
            <a:ext cx="313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11530080" y="640872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6340-7A81-4DE8-9879-672AA212B769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76440" y="146160"/>
            <a:ext cx="11241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652320" y="1468440"/>
            <a:ext cx="11157120" cy="50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Lucida Sans Unicode"/>
              </a:rPr>
              <a:t>Назначение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: создание у обучающегося опыта решения реальных проблем, стоящих перед специалистами в конкретной сфере, и полного цикла решения этих проблем, от предварительного изыскания до представления итогового интеллектуального продукта и его экспертизы реальными профессионалами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Lucida Sans Unicode"/>
              </a:rPr>
              <a:t>Сущность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: постановка развернутого технического задания на решение конкретной, ранее не решавшейся, проблемы в строго определённых условиях, вместе с прямыми или косвенными указаниями на возможные методы и инструменты, которые позволят решить эту проблему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Lucida Sans Unicode"/>
              </a:rPr>
              <a:t>Пример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: построить новую транспортную развязку в плотно застроенном районе, которая бы сделала его транспортно доступным для большого числа жителей, удовлетворила представителей всех жилых массивов и притом не осложнила бы общую дорожную ситуацию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Заголовок 1" descr=""/>
          <p:cNvPicPr/>
          <p:nvPr/>
        </p:nvPicPr>
        <p:blipFill>
          <a:blip r:embed="rId1"/>
          <a:stretch/>
        </p:blipFill>
        <p:spPr>
          <a:xfrm>
            <a:off x="457200" y="171360"/>
            <a:ext cx="1126476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писание ситуации – максимально привязанное к реалиям, актуальным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/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отивирующим данных конкретных учеников. Основания для целеполагани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тиворечие должно намекать на виды деятельности, позволяющие его преодолеть. Оформление целеполагани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ополнительные обстоятельства =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&gt;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едмет для понимания и планирования порядка действий по их использованию или преодолению =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&gt;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сновные этапы в ходе разработ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ребуемые продукты – определяют базовую технологическую карту деятельност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Заголовок 1" descr=""/>
          <p:cNvPicPr/>
          <p:nvPr/>
        </p:nvPicPr>
        <p:blipFill>
          <a:blip r:embed="rId1"/>
          <a:stretch/>
        </p:blipFill>
        <p:spPr>
          <a:xfrm>
            <a:off x="603360" y="122400"/>
            <a:ext cx="109854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66560" y="1321920"/>
            <a:ext cx="11381040" cy="52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Проанализировать формулировку: выявить базовое противоречие, которое необходимо решить; обязательные требования к процессу решения и к итоговому продукту; скрытые «намеки», содержащиеся в правилах и позволяющие успешно решить задачу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Определить предметные знания, которые позволят решить задачу при поставленных условиях, и построить оптимальный план их освоения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Разработка и проверка базовой гипотезы относительно решения задачи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Спланировать шаги по решению задачи, в том числе, освоение недостающих для этого знаний, а также точки промежуточного анализа: насколько достигаемые нами результаты позволяют дать ответ на вопросы задачи, и не стоит ли скорректировать план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Решение задачи в соответствии с планом, в том числе, дополнительное освоение необходимых знаний с помощью педагога или в режиме самостоятельной работы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Итоговая самопроверка: насколько решение задачи соответствует исходным условиям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Заголовок 1" descr=""/>
          <p:cNvPicPr/>
          <p:nvPr/>
        </p:nvPicPr>
        <p:blipFill>
          <a:blip r:embed="rId1"/>
          <a:stretch/>
        </p:blipFill>
        <p:spPr>
          <a:xfrm>
            <a:off x="835200" y="-30240"/>
            <a:ext cx="105282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6840" y="1979640"/>
            <a:ext cx="1133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ошаговая организация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«ведение»): педагог объясняет и подготавливает каждый шаг, а потом закрепляет опыт (рефлексивные процедуры)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руководство: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едагог ставит задачи, объясняет способ их решения, а затем время от времени собирает отчёты и советует, как скорректировать – усовершенствовать – работу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управление: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едагог организует самостоятельное планирование работ учениками, и затем действует то как консультант, то как «представитель реальности»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11344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730080" y="1566720"/>
            <a:ext cx="10692000" cy="492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личие проблемы/противоречия, которое описано так, что его </a:t>
            </a: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хочется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разрешить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личие четко описанных условий решения задачи и требований к результату её решения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личие в формулировке прямых или косвенных указаний на методологию 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/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ли на последовательность действий в ходе решени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личие указаний позволяющих отсечь заведомо непродуктивные пути решен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Заголовок 1" descr=""/>
          <p:cNvPicPr/>
          <p:nvPr/>
        </p:nvPicPr>
        <p:blipFill>
          <a:blip r:embed="rId1"/>
          <a:stretch/>
        </p:blipFill>
        <p:spPr>
          <a:xfrm>
            <a:off x="835200" y="146160"/>
            <a:ext cx="105282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Lucida Sans Unicode"/>
              </a:rPr>
              <a:t>Необходимо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 придумать и описать город, находящийся на дне океана, в том числе, его архитектуру, логистику, основные занятия и образ жизни жителей, назначение города в современном мире (зачем людям жить на дне океана?)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2" descr=""/>
          <p:cNvPicPr/>
          <p:nvPr/>
        </p:nvPicPr>
        <p:blipFill>
          <a:blip r:embed="rId1"/>
          <a:stretch/>
        </p:blipFill>
        <p:spPr>
          <a:xfrm>
            <a:off x="560520" y="-92160"/>
            <a:ext cx="1106460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Содержимое 3" descr="2.jpg"/>
          <p:cNvPicPr/>
          <p:nvPr/>
        </p:nvPicPr>
        <p:blipFill>
          <a:blip r:embed="rId1"/>
          <a:stretch/>
        </p:blipFill>
        <p:spPr>
          <a:xfrm>
            <a:off x="3833640" y="476280"/>
            <a:ext cx="5531040" cy="55306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-31320"/>
            <a:ext cx="109728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747360" y="2222280"/>
            <a:ext cx="1116324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«Организация исследовательской деятельности на уроке»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«Организация проектной деятельности на уроке»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Lucida Sans Unicode"/>
              </a:rPr>
              <a:t>«Организация проектно-исследовательской деятельности обучающихся во внеурочной работе»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Заголовок 1" descr=""/>
          <p:cNvPicPr/>
          <p:nvPr/>
        </p:nvPicPr>
        <p:blipFill>
          <a:blip r:embed="rId1"/>
          <a:stretch/>
        </p:blipFill>
        <p:spPr>
          <a:xfrm>
            <a:off x="603360" y="390600"/>
            <a:ext cx="1098540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Объект 3" descr=""/>
          <p:cNvPicPr/>
          <p:nvPr/>
        </p:nvPicPr>
        <p:blipFill>
          <a:blip r:embed="rId1"/>
          <a:stretch/>
        </p:blipFill>
        <p:spPr>
          <a:xfrm>
            <a:off x="182520" y="585720"/>
            <a:ext cx="975348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609480" y="1920960"/>
            <a:ext cx="10972800" cy="40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овлечение учеников в конкретную сферу исследовательской или практической деятельност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формление для ученика противоречия/парадокса в предметной теме, решая который, можно реконструировать эту тему + превратить знания в собственные инструменты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603360" y="122400"/>
            <a:ext cx="109854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574200" y="1642680"/>
            <a:ext cx="1126332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в основе её лежит проблема: противоречие или парадокс, решение которых, по тем или иным причинам, важно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решение задачи – заведомо значимо для науки или для практики: может лечь в основу новой технологии, стать опорой для проекта…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решение задачи помогает до конца понять связи и закономерности изучаемой сферы (части нашего мира)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112777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Парадоксальные задачи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(начальная школа, 5-6 классы, иногда даже старший дошкольный возраст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Проблемно-деятельностные задачи в собственном смысле слова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(7-11 классы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Проблемно-проектные задачи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: 10-11 классы, среднее профессиональное образование, студенты высших учебных заведений 1-2 курсов обучен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652320" y="122400"/>
            <a:ext cx="109857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631800" y="1430280"/>
            <a:ext cx="1114920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Lucida Sans Unicode"/>
              </a:rPr>
              <a:t>Назначение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: пробудить интерес к предметной области и её проблематике; сформировать персональный («субъективный») опыт самостоятельного решения познавательных или практических проблем, и на этой основе «переоткрытия» существующего научного знания или разработки проектных идей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Lucida Sans Unicode"/>
              </a:rPr>
              <a:t>Сущность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: задача, требующая описать комплексный объект (поселение, сферу деятельности, предприятие, и т.д.), отвечающее некоему «невозможному» требованию, – а также представить систему условий, при которых это требование окажется выполнимым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Lucida Sans Unicode"/>
              </a:rPr>
              <a:t>Пример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: описать город на дней океана, в том числе, причины, по которым в нём захочет и сможет жить достаточное количество людей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835200" y="274680"/>
            <a:ext cx="105282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838080" y="19998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Lucida Sans Unicode"/>
              </a:rPr>
              <a:t>Назначение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: организовать исследование учеником реальной научной и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/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или практической проблемы, а также помочь сформировать продуктивную гипотезу и проделать первый этап работы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Lucida Sans Unicode"/>
              </a:rPr>
              <a:t>Сущность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: описание реальной научной и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/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или практической проблемы, для которой отсутствует «готовое» решение, описанное в книгах или в Интернете, но которую при этом ученики могут по крайней мере проанализировать и начать решать при помощи педагога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Lucida Sans Unicode"/>
              </a:rPr>
              <a:t>Пример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: придумать и описать работу оптимальной системы искусственного вызова дождя в засушливой местности, которая была бы экономична в использовании и, самое главное, не вредила экологии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603360" y="139680"/>
            <a:ext cx="1098540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1-04T10:24:53Z</dcterms:created>
  <dc:creator>Huawei</dc:creator>
  <dc:description/>
  <dc:language>en-US</dc:language>
  <cp:lastModifiedBy>VVF_2</cp:lastModifiedBy>
  <dcterms:modified xsi:type="dcterms:W3CDTF">2024-11-08T02:07:52Z</dcterms:modified>
  <cp:revision>32</cp:revision>
  <dc:subject/>
  <dc:title>Организация проектно-исследовательской деятельности обучающихся во внеурочной работе</dc:title>
</cp:coreProperties>
</file>